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28.gif" ContentType="image/gif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B9A-1B58-4717-B238-936F48863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361-5B6B-41FD-91A9-F6624F3577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AA6-C8F0-4429-BC28-AA309F0C8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A16F-4B61-4691-8142-17EC5662D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D2E-D619-410B-97E7-2DB681620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A5A-B477-4007-89F8-A8E73C87E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CE0-F5F4-42CE-929A-4E91C75B4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C5B-FDE2-48BB-9D32-CC84127263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07B6-EB5C-4359-91BE-A738D9E58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4A81-6C26-4C8F-A3D7-1D355E35CA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B1F-CA34-4104-AEDD-B47B580D8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389-4320-4EC9-AA66-EEFCD26C1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779-76B7-4814-A8D7-84A2B99980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516-3A5D-42E5-BD87-48DABE16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68F-A017-411E-9A5A-47E69BD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EA8-F8A6-4E73-951C-11FD9938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B49-29FC-42FA-8355-8F3EB44B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4E0-48A7-47E9-8A26-F579F49C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E1C-E41E-4192-9D73-34C03987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B9D-9E8F-40E6-BCAF-D31F15CF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9FD-F1D4-4AB3-B3A5-F8035CD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679-7902-4476-9347-755D9B9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527-D49D-4FF2-BB10-414FDE9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2A3-C095-4D5B-B87C-E43A8D5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8BB-12CD-4E88-8F3F-0141203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818-6F2B-4C02-B874-51C3740AD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Буква Вв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Закрепление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1 класс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40428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Читаем вместе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 Мудрой с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сова читает.jpg"/>
          <p:cNvPicPr/>
          <p:nvPr/>
        </p:nvPicPr>
        <p:blipFill>
          <a:blip r:embed="rId2"/>
          <a:stretch/>
        </p:blipFill>
        <p:spPr>
          <a:xfrm>
            <a:off x="0" y="18900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60440" y="3068640"/>
            <a:ext cx="14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2411280" y="213372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250920" y="4083480"/>
            <a:ext cx="20174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Calibri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1" lang="ru-RU" sz="8000" spc="-1" strike="noStrike">
                <a:solidFill>
                  <a:srgbClr val="000000"/>
                </a:solidFill>
                <a:latin typeface="Verdana"/>
                <a:ea typeface="Calibri"/>
              </a:rPr>
              <a:t>во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2701080" y="3357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2633400" y="4581360"/>
            <a:ext cx="16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387040" y="2133720"/>
            <a:ext cx="300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Verdana"/>
              </a:rPr>
              <a:t>Во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4919040" y="4005360"/>
            <a:ext cx="366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Verdana"/>
              </a:rPr>
              <a:t>Сла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46840" y="-642960"/>
            <a:ext cx="322272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938160" y="73080"/>
            <a:ext cx="3487680" cy="11397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4" descr=""/>
          <p:cNvPicPr/>
          <p:nvPr/>
        </p:nvPicPr>
        <p:blipFill>
          <a:blip r:embed="rId3"/>
          <a:stretch/>
        </p:blipFill>
        <p:spPr>
          <a:xfrm>
            <a:off x="1944720" y="3828960"/>
            <a:ext cx="1938240" cy="1103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сова с книгой.jpg"/>
          <p:cNvPicPr/>
          <p:nvPr/>
        </p:nvPicPr>
        <p:blipFill>
          <a:blip r:embed="rId4"/>
          <a:stretch/>
        </p:blipFill>
        <p:spPr>
          <a:xfrm>
            <a:off x="6226200" y="-100080"/>
            <a:ext cx="2784600" cy="393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53400" y="-642960"/>
            <a:ext cx="35290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3067200" y="3255840"/>
            <a:ext cx="2303280" cy="11034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сова с книгой.jpg"/>
          <p:cNvPicPr/>
          <p:nvPr/>
        </p:nvPicPr>
        <p:blipFill>
          <a:blip r:embed="rId3"/>
          <a:stretch/>
        </p:blipFill>
        <p:spPr>
          <a:xfrm>
            <a:off x="6226200" y="-100080"/>
            <a:ext cx="2784600" cy="393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352600" y="-1467000"/>
            <a:ext cx="365760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3035160" y="3828960"/>
            <a:ext cx="2286000" cy="1103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сова с книгой.jpg"/>
          <p:cNvPicPr/>
          <p:nvPr/>
        </p:nvPicPr>
        <p:blipFill>
          <a:blip r:embed="rId3"/>
          <a:stretch/>
        </p:blipFill>
        <p:spPr>
          <a:xfrm>
            <a:off x="6226200" y="-100080"/>
            <a:ext cx="2784600" cy="393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589840" y="-642960"/>
            <a:ext cx="35290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3219480" y="3255840"/>
            <a:ext cx="2193840" cy="110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55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«Найди букв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сова принесла задание.jpg"/>
          <p:cNvPicPr/>
          <p:nvPr/>
        </p:nvPicPr>
        <p:blipFill>
          <a:blip r:embed="rId2"/>
          <a:stretch/>
        </p:blipFill>
        <p:spPr>
          <a:xfrm>
            <a:off x="324000" y="260280"/>
            <a:ext cx="2160360" cy="2190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50920" y="2781360"/>
            <a:ext cx="842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аинвсктлваоурвыировкунн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выоинвстикитнуарлвукивы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рыноивкстрлвовнтсуиывст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440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Два урока мы трудились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И совсем не утомились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Букву В учили дружно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Было нам совсем не грузно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ВОЛК, ВОРОНА, ВОЛЯ, ВЕТЕР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Этих слов не страшно встрети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440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Я узнал 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Я научился 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Мне было интересно 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Я испытывал трудности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Для меня было открытием, что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Щекутова Елена Анатольевн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г. Качканар МОУ СОШ №7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«Школа АБВ»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http</a:t>
            </a: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://</a:t>
            </a: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www.shkola-abv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Пожелания от Солнышка и веселые смайлики - анимация"/>
          <p:cNvPicPr/>
          <p:nvPr/>
        </p:nvPicPr>
        <p:blipFill>
          <a:blip r:embed="rId2"/>
          <a:stretch/>
        </p:blipFill>
        <p:spPr>
          <a:xfrm>
            <a:off x="539640" y="260280"/>
            <a:ext cx="8064720" cy="597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Пожелаем друг другу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Успехов в учении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ы умные, мы дружны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ы - внимательные,                              Мы- старательные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ы в первом классе учимся 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Всё у нас получится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Verdana"/>
              </a:rPr>
              <a:t>Урок с Мудрой сово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5" descr="сова с указкой.jpg"/>
          <p:cNvPicPr/>
          <p:nvPr/>
        </p:nvPicPr>
        <p:blipFill>
          <a:blip r:embed="rId2"/>
          <a:stretch/>
        </p:blipFill>
        <p:spPr>
          <a:xfrm>
            <a:off x="250920" y="476280"/>
            <a:ext cx="2305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2"/>
          <a:stretch/>
        </p:blipFill>
        <p:spPr>
          <a:xfrm>
            <a:off x="146160" y="73080"/>
            <a:ext cx="5584680" cy="1139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35680" y="2038320"/>
            <a:ext cx="82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оронила ворона воронё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511080" y="4191120"/>
            <a:ext cx="404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дворе тра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траве др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5" descr="сова с указкой.jpg"/>
          <p:cNvPicPr/>
          <p:nvPr/>
        </p:nvPicPr>
        <p:blipFill>
          <a:blip r:embed="rId3"/>
          <a:stretch/>
        </p:blipFill>
        <p:spPr>
          <a:xfrm>
            <a:off x="476280" y="3573360"/>
            <a:ext cx="2305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логов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сова сидит.jpg"/>
          <p:cNvPicPr/>
          <p:nvPr/>
        </p:nvPicPr>
        <p:blipFill>
          <a:blip r:embed="rId2"/>
          <a:stretch/>
        </p:blipFill>
        <p:spPr>
          <a:xfrm>
            <a:off x="0" y="404640"/>
            <a:ext cx="714240" cy="10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76120" y="1197000"/>
          <a:ext cx="8640720" cy="4683240"/>
        </p:xfrm>
        <a:graphic>
          <a:graphicData uri="http://schemas.openxmlformats.org/drawingml/2006/table">
            <a:tbl>
              <a:tblPr/>
              <a:tblGrid>
                <a:gridCol w="1440000"/>
                <a:gridCol w="1444680"/>
                <a:gridCol w="1447560"/>
                <a:gridCol w="1508400"/>
                <a:gridCol w="1446120"/>
                <a:gridCol w="1353960"/>
              </a:tblGrid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93636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Прямоугольник 7" descr=""/>
          <p:cNvPicPr/>
          <p:nvPr/>
        </p:nvPicPr>
        <p:blipFill>
          <a:blip r:embed="rId3"/>
          <a:stretch/>
        </p:blipFill>
        <p:spPr>
          <a:xfrm>
            <a:off x="1305000" y="1639800"/>
            <a:ext cx="2316240" cy="16099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9" descr=""/>
          <p:cNvPicPr/>
          <p:nvPr/>
        </p:nvPicPr>
        <p:blipFill>
          <a:blip r:embed="rId4"/>
          <a:stretch/>
        </p:blipFill>
        <p:spPr>
          <a:xfrm>
            <a:off x="2816280" y="1639800"/>
            <a:ext cx="2298600" cy="1609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0" descr=""/>
          <p:cNvPicPr/>
          <p:nvPr/>
        </p:nvPicPr>
        <p:blipFill>
          <a:blip r:embed="rId5"/>
          <a:stretch/>
        </p:blipFill>
        <p:spPr>
          <a:xfrm>
            <a:off x="4181400" y="1639800"/>
            <a:ext cx="2365560" cy="16099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1" descr=""/>
          <p:cNvPicPr/>
          <p:nvPr/>
        </p:nvPicPr>
        <p:blipFill>
          <a:blip r:embed="rId6"/>
          <a:stretch/>
        </p:blipFill>
        <p:spPr>
          <a:xfrm>
            <a:off x="5553000" y="1639800"/>
            <a:ext cx="2543400" cy="16099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2" descr=""/>
          <p:cNvPicPr/>
          <p:nvPr/>
        </p:nvPicPr>
        <p:blipFill>
          <a:blip r:embed="rId7"/>
          <a:stretch/>
        </p:blipFill>
        <p:spPr>
          <a:xfrm>
            <a:off x="6991200" y="1566720"/>
            <a:ext cx="2384640" cy="1609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3" descr=""/>
          <p:cNvPicPr/>
          <p:nvPr/>
        </p:nvPicPr>
        <p:blipFill>
          <a:blip r:embed="rId8"/>
          <a:stretch/>
        </p:blipFill>
        <p:spPr>
          <a:xfrm>
            <a:off x="1481040" y="2614680"/>
            <a:ext cx="2011320" cy="14446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5" descr=""/>
          <p:cNvPicPr/>
          <p:nvPr/>
        </p:nvPicPr>
        <p:blipFill>
          <a:blip r:embed="rId9"/>
          <a:stretch/>
        </p:blipFill>
        <p:spPr>
          <a:xfrm>
            <a:off x="2992320" y="2614680"/>
            <a:ext cx="1987560" cy="14446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10"/>
          <a:stretch/>
        </p:blipFill>
        <p:spPr>
          <a:xfrm>
            <a:off x="4432320" y="2541600"/>
            <a:ext cx="2054160" cy="14446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7" descr=""/>
          <p:cNvPicPr/>
          <p:nvPr/>
        </p:nvPicPr>
        <p:blipFill>
          <a:blip r:embed="rId11"/>
          <a:stretch/>
        </p:blipFill>
        <p:spPr>
          <a:xfrm>
            <a:off x="5803920" y="2614680"/>
            <a:ext cx="221292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8" descr=""/>
          <p:cNvPicPr/>
          <p:nvPr/>
        </p:nvPicPr>
        <p:blipFill>
          <a:blip r:embed="rId12"/>
          <a:stretch/>
        </p:blipFill>
        <p:spPr>
          <a:xfrm>
            <a:off x="7169040" y="2614680"/>
            <a:ext cx="2071800" cy="1444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9" descr=""/>
          <p:cNvPicPr/>
          <p:nvPr/>
        </p:nvPicPr>
        <p:blipFill>
          <a:blip r:embed="rId13"/>
          <a:stretch/>
        </p:blipFill>
        <p:spPr>
          <a:xfrm>
            <a:off x="1463760" y="3449520"/>
            <a:ext cx="2127240" cy="15987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14"/>
          <a:stretch/>
        </p:blipFill>
        <p:spPr>
          <a:xfrm>
            <a:off x="4406760" y="3449520"/>
            <a:ext cx="2170080" cy="15987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4" descr=""/>
          <p:cNvPicPr/>
          <p:nvPr/>
        </p:nvPicPr>
        <p:blipFill>
          <a:blip r:embed="rId15"/>
          <a:stretch/>
        </p:blipFill>
        <p:spPr>
          <a:xfrm>
            <a:off x="5638680" y="3524400"/>
            <a:ext cx="235296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5" descr=""/>
          <p:cNvPicPr/>
          <p:nvPr/>
        </p:nvPicPr>
        <p:blipFill>
          <a:blip r:embed="rId16"/>
          <a:stretch/>
        </p:blipFill>
        <p:spPr>
          <a:xfrm>
            <a:off x="7143840" y="3449520"/>
            <a:ext cx="2195280" cy="15987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6" descr=""/>
          <p:cNvPicPr/>
          <p:nvPr/>
        </p:nvPicPr>
        <p:blipFill>
          <a:blip r:embed="rId17"/>
          <a:stretch/>
        </p:blipFill>
        <p:spPr>
          <a:xfrm>
            <a:off x="2895480" y="3449520"/>
            <a:ext cx="2109960" cy="15987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7" descr=""/>
          <p:cNvPicPr/>
          <p:nvPr/>
        </p:nvPicPr>
        <p:blipFill>
          <a:blip r:embed="rId18"/>
          <a:stretch/>
        </p:blipFill>
        <p:spPr>
          <a:xfrm>
            <a:off x="1378080" y="4389480"/>
            <a:ext cx="2279520" cy="15904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8" descr=""/>
          <p:cNvPicPr/>
          <p:nvPr/>
        </p:nvPicPr>
        <p:blipFill>
          <a:blip r:embed="rId19"/>
          <a:stretch/>
        </p:blipFill>
        <p:spPr>
          <a:xfrm>
            <a:off x="2882880" y="4389480"/>
            <a:ext cx="2249640" cy="15904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9" descr=""/>
          <p:cNvPicPr/>
          <p:nvPr/>
        </p:nvPicPr>
        <p:blipFill>
          <a:blip r:embed="rId20"/>
          <a:stretch/>
        </p:blipFill>
        <p:spPr>
          <a:xfrm>
            <a:off x="4309920" y="4389480"/>
            <a:ext cx="2328840" cy="15904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0" descr=""/>
          <p:cNvPicPr/>
          <p:nvPr/>
        </p:nvPicPr>
        <p:blipFill>
          <a:blip r:embed="rId21"/>
          <a:stretch/>
        </p:blipFill>
        <p:spPr>
          <a:xfrm>
            <a:off x="7053120" y="4316400"/>
            <a:ext cx="2346480" cy="15969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1" descr=""/>
          <p:cNvPicPr/>
          <p:nvPr/>
        </p:nvPicPr>
        <p:blipFill>
          <a:blip r:embed="rId22"/>
          <a:stretch/>
        </p:blipFill>
        <p:spPr>
          <a:xfrm>
            <a:off x="5645160" y="4370400"/>
            <a:ext cx="250524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7"/>
          <p:cNvSpPr/>
          <p:nvPr/>
        </p:nvSpPr>
        <p:spPr>
          <a:xfrm>
            <a:off x="3851280" y="1628640"/>
            <a:ext cx="4392720" cy="41040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man Old Style"/>
              </a:rPr>
              <a:t>Бук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8" descr="сова с книгой.jpg"/>
          <p:cNvPicPr/>
          <p:nvPr/>
        </p:nvPicPr>
        <p:blipFill>
          <a:blip r:embed="rId2"/>
          <a:stretch/>
        </p:blipFill>
        <p:spPr>
          <a:xfrm>
            <a:off x="468360" y="404640"/>
            <a:ext cx="2784600" cy="39387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0" descr=""/>
          <p:cNvPicPr/>
          <p:nvPr/>
        </p:nvPicPr>
        <p:blipFill>
          <a:blip r:embed="rId3"/>
          <a:stretch/>
        </p:blipFill>
        <p:spPr>
          <a:xfrm>
            <a:off x="1816200" y="171360"/>
            <a:ext cx="8602560" cy="581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«Согласные звуки [в], [в</a:t>
            </a:r>
            <a:r>
              <a:rPr b="1" lang="ru-RU" sz="3600" spc="-1" strike="noStrike" baseline="30000">
                <a:solidFill>
                  <a:srgbClr val="0070c0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], буквы В, в.»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Закреп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Утром встал гусак на лап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Приготовился к зарядк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Повернулся влево, вправ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Приседанья сделал справно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Клювиком почистил пух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И опять за парту – плюх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11:12Z</dcterms:created>
  <dc:creator>админи</dc:creator>
  <dc:description/>
  <dc:language>en-US</dc:language>
  <cp:lastModifiedBy>Борис</cp:lastModifiedBy>
  <dcterms:modified xsi:type="dcterms:W3CDTF">2014-03-30T15:05:07Z</dcterms:modified>
  <cp:revision>39</cp:revision>
  <dc:subject/>
  <dc:title>«Согласные звуки [в], [в,], буквы В, в.»</dc:title>
</cp:coreProperties>
</file>